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970-2411-4089-966B-6517445F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64C-3147-4A5F-9B42-8DFD0ABE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B48-163F-4A2D-9C37-5F555255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6EB-A0C8-4413-8D65-D94948D9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470-13FC-4BE2-9999-6166CB70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355-3E4A-490E-BA2B-F7072FA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6D0-7C21-4D07-B3B8-A914DBB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D73-FAEA-4CFA-A423-0A035E01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9EC-FF87-41FC-9E8F-66C83D87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B7E-ED5E-43D1-881D-C1EA490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FCF-92F4-41B0-B329-10364CE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CAC-5937-41FB-86CC-DFDA125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9337-E685-4317-865B-F8ABE0C2C56B}" type="slidenum">
              <a:rPr b="0" lang="he-IL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New%20Dangers/Finding%20the%20MK2.doc" TargetMode="External"/><Relationship Id="rId3" Type="http://schemas.openxmlformats.org/officeDocument/2006/relationships/hyperlink" Target="file:///New%20Dangers/Khar%20quest.doc" TargetMode="External"/><Relationship Id="rId4" Type="http://schemas.openxmlformats.org/officeDocument/2006/relationships/hyperlink" Target="file:///New%20Dangers/Story%20of%20the%20Mrn.doc" TargetMode="External"/><Relationship Id="rId5" Type="http://schemas.openxmlformats.org/officeDocument/2006/relationships/hyperlink" Target="file:///New%20Dangers/AI.doc" TargetMode="External"/><Relationship Id="rId6" Type="http://schemas.openxmlformats.org/officeDocument/2006/relationships/hyperlink" Target="file:///New%20Dangers/Okkara%20quest.doc" TargetMode="External"/><Relationship Id="rId7" Type="http://schemas.openxmlformats.org/officeDocument/2006/relationships/hyperlink" Target="file:///New%20Dangers/Mokopo%20quest.doc" TargetMode="External"/><Relationship Id="rId8" Type="http://schemas.openxmlformats.org/officeDocument/2006/relationships/hyperlink" Target="file:///New%20Dangers/Kterbi.doc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he%20REAL%20threat/The%20AIs%20power.doc" TargetMode="External"/><Relationship Id="rId3" Type="http://schemas.openxmlformats.org/officeDocument/2006/relationships/hyperlink" Target="file:///The%20REAL%20threat/Stopping%20the%20Mother%20Ark.doc" TargetMode="External"/><Relationship Id="rId4" Type="http://schemas.openxmlformats.org/officeDocument/2006/relationships/hyperlink" Target="file:///The%20REAL%20threat/Defending%20against%20&#8220;possession&#8221;%20.doc" TargetMode="External"/><Relationship Id="rId5" Type="http://schemas.openxmlformats.org/officeDocument/2006/relationships/hyperlink" Target="file:///The%20REAL%20threat/Finding%20the%20Precursor%20factory.doc" TargetMode="External"/><Relationship Id="rId6" Type="http://schemas.openxmlformats.org/officeDocument/2006/relationships/hyperlink" Target="file:///The%20REAL%20threat/Final%20Battle.doc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xtras/The%20Slylendro%20quest.doc" TargetMode="External"/><Relationship Id="rId3" Type="http://schemas.openxmlformats.org/officeDocument/2006/relationships/hyperlink" Target="file:///Extras/The%20Slylendro%20quest.doc" TargetMode="External"/><Relationship Id="rId4" Type="http://schemas.openxmlformats.org/officeDocument/2006/relationships/hyperlink" Target="file:///Extras/The%20escaping%20Ur-quan.doc" TargetMode="External"/><Relationship Id="rId5" Type="http://schemas.openxmlformats.org/officeDocument/2006/relationships/hyperlink" Target="file:///Extras/The%20escaping%20Ur-quan.doc" TargetMode="External"/><Relationship Id="rId6" Type="http://schemas.openxmlformats.org/officeDocument/2006/relationships/hyperlink" Target="file:///Extras/Quasispace%20portal%20spawners.doc" TargetMode="External"/><Relationship Id="rId7" Type="http://schemas.openxmlformats.org/officeDocument/2006/relationships/hyperlink" Target="file:///Extras/Quasispace%20portal%20spawners.doc" TargetMode="External"/><Relationship Id="rId8" Type="http://schemas.openxmlformats.org/officeDocument/2006/relationships/hyperlink" Target="file:///Extras/Quasispace%20portal%20spawners.doc" TargetMode="External"/><Relationship Id="rId9" Type="http://schemas.openxmlformats.org/officeDocument/2006/relationships/hyperlink" Target="file:///Extras/Helping%20the%20Jyglar.doc" TargetMode="External"/><Relationship Id="rId10" Type="http://schemas.openxmlformats.org/officeDocument/2006/relationships/hyperlink" Target="file:///Extras/Helping%20the%20Jyglar.doc" TargetMode="External"/><Relationship Id="rId11" Type="http://schemas.openxmlformats.org/officeDocument/2006/relationships/hyperlink" Target="file:///Extras/The%20supox%20expedition.doc" TargetMode="External"/><Relationship Id="rId12" Type="http://schemas.openxmlformats.org/officeDocument/2006/relationships/hyperlink" Target="file:///Extras/The%20supox%20expedition.doc" TargetMode="External"/><Relationship Id="rId13" Type="http://schemas.openxmlformats.org/officeDocument/2006/relationships/hyperlink" Target="file:///Extras/The%20supox%20expedition.doc" TargetMode="External"/><Relationship Id="rId14" Type="http://schemas.openxmlformats.org/officeDocument/2006/relationships/hyperlink" Target="file:///Extras/The%20Manglers%20Queen.doc" TargetMode="External"/><Relationship Id="rId15" Type="http://schemas.openxmlformats.org/officeDocument/2006/relationships/hyperlink" Target="file:///Extras/The%20Manglers%20Queen.doc" TargetMode="External"/><Relationship Id="rId16" Type="http://schemas.openxmlformats.org/officeDocument/2006/relationships/hyperlink" Target="file:///Extras/The%20Manglers%20Queen.doc" TargetMode="External"/><Relationship Id="rId17" Type="http://schemas.openxmlformats.org/officeDocument/2006/relationships/hyperlink" Target="file:///Back%20Home/Finding%20Fwiffo.doc" TargetMode="External"/><Relationship Id="rId18" Type="http://schemas.openxmlformats.org/officeDocument/2006/relationships/hyperlink" Target="file:///Back%20Home/Finding%20Fwiffo.doc" TargetMode="External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hyperlink" Target="file:///Extras/The%20Melnorme%20Stations.doc" TargetMode="External"/><Relationship Id="rId4" Type="http://schemas.openxmlformats.org/officeDocument/2006/relationships/hyperlink" Target="file:///Extras/The%20NAFS%20station.doc" TargetMode="External"/><Relationship Id="rId5" Type="http://schemas.openxmlformats.org/officeDocument/2006/relationships/hyperlink" Target="file:///Extras/Menacers.doc" TargetMode="External"/><Relationship Id="rId6" Type="http://schemas.openxmlformats.org/officeDocument/2006/relationships/hyperlink" Target="file:///Extras/Menacers.doc" TargetMode="External"/><Relationship Id="rId7" Type="http://schemas.openxmlformats.org/officeDocument/2006/relationships/hyperlink" Target="file:///Extras/More%20about%20the%20Mrn.doc" TargetMode="External"/><Relationship Id="rId8" Type="http://schemas.openxmlformats.org/officeDocument/2006/relationships/hyperlink" Target="file:///Extras/The%20Andtrosynth%20Survivors.doc" TargetMode="External"/><Relationship Id="rId9" Type="http://schemas.openxmlformats.org/officeDocument/2006/relationships/hyperlink" Target="file:///Extras/The%20Andtrosynth%20Survivors.doc" TargetMode="External"/><Relationship Id="rId10" Type="http://schemas.openxmlformats.org/officeDocument/2006/relationships/hyperlink" Target="file:///Extras/The%20Andtrosynth%20Survivors.doc" TargetMode="External"/><Relationship Id="rId11" Type="http://schemas.openxmlformats.org/officeDocument/2006/relationships/hyperlink" Target="file:///Extras/Sites%20devices%20and%20characters%20in%20the%20game.doc" TargetMode="External"/><Relationship Id="rId12" Type="http://schemas.openxmlformats.org/officeDocument/2006/relationships/hyperlink" Target="file:///Extras/Dates%20with%20Talana.doc" TargetMode="External"/><Relationship Id="rId13" Type="http://schemas.openxmlformats.org/officeDocument/2006/relationships/hyperlink" Target="file:///Extras/Dates%20with%20Talana.doc" TargetMode="External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ntro.doc" TargetMode="External"/><Relationship Id="rId3" Type="http://schemas.openxmlformats.org/officeDocument/2006/relationships/hyperlink" Target="file:///Prolog.doc" TargetMode="Externa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he%20New%20Arm%20Adventures/The%20Mrn%20threat.doc" TargetMode="Externa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New%20Races/Okk&apos;ara.doc" TargetMode="External"/><Relationship Id="rId3" Type="http://schemas.openxmlformats.org/officeDocument/2006/relationships/hyperlink" Target="file:///New%20Races/Khar.doc" TargetMode="External"/><Relationship Id="rId4" Type="http://schemas.openxmlformats.org/officeDocument/2006/relationships/hyperlink" Target="file:///New%20Races/Mokopo.doc" TargetMode="External"/><Relationship Id="rId5" Type="http://schemas.openxmlformats.org/officeDocument/2006/relationships/hyperlink" Target="file:///New%20Races/Denrode.doc" TargetMode="External"/><Relationship Id="rId6" Type="http://schemas.openxmlformats.org/officeDocument/2006/relationships/hyperlink" Target="file:///New%20Races/Estion.doc" TargetMode="External"/><Relationship Id="rId7" Type="http://schemas.openxmlformats.org/officeDocument/2006/relationships/hyperlink" Target="file:///New%20Races/Kterbi.doc" TargetMode="External"/><Relationship Id="rId8" Type="http://schemas.openxmlformats.org/officeDocument/2006/relationships/hyperlink" Target="file:///New%20Races/Alkory.doc" TargetMode="External"/><Relationship Id="rId9" Type="http://schemas.openxmlformats.org/officeDocument/2006/relationships/hyperlink" Target="file:///New%20Races/Niko.doc" TargetMode="External"/><Relationship Id="rId10" Type="http://schemas.openxmlformats.org/officeDocument/2006/relationships/hyperlink" Target="file:///New%20Races/Ger.doc" TargetMode="External"/><Relationship Id="rId11" Type="http://schemas.openxmlformats.org/officeDocument/2006/relationships/hyperlink" Target="file:///New%20Races/Mmrnmhrm.doc" TargetMode="External"/><Relationship Id="rId12" Type="http://schemas.openxmlformats.org/officeDocument/2006/relationships/hyperlink" Target="file:///New%20Races/AI.doc" TargetMode="External"/><Relationship Id="rId13" Type="http://schemas.openxmlformats.org/officeDocument/2006/relationships/hyperlink" Target="file:///New%20Races/Mrii.doc" TargetMode="External"/><Relationship Id="rId14" Type="http://schemas.openxmlformats.org/officeDocument/2006/relationships/hyperlink" Target="file:///New%20Races/New%20Arm%20Melnorme.doc" TargetMode="External"/><Relationship Id="rId15" Type="http://schemas.openxmlformats.org/officeDocument/2006/relationships/hyperlink" Target="file:///New%20Races/Space%20Monster%20Mangler.doc" TargetMode="External"/><Relationship Id="rId1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Back%20Home/State%20of%20the%20Home%20quardrant.doc" TargetMode="External"/><Relationship Id="rId3" Type="http://schemas.openxmlformats.org/officeDocument/2006/relationships/hyperlink" Target="file:///New%20Races/Guph.doc" TargetMode="External"/><Relationship Id="rId4" Type="http://schemas.openxmlformats.org/officeDocument/2006/relationships/hyperlink" Target="file:///New%20Races/Jyglar.doc" TargetMode="Externa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Back%20Home/Framed.doc" TargetMode="External"/><Relationship Id="rId3" Type="http://schemas.openxmlformats.org/officeDocument/2006/relationships/slide" Target="slide10.xml"/><Relationship Id="rId4" Type="http://schemas.openxmlformats.org/officeDocument/2006/relationships/hyperlink" Target="file:///Back%20Home/Gettings%20Talana.doc" TargetMode="External"/><Relationship Id="rId5" Type="http://schemas.openxmlformats.org/officeDocument/2006/relationships/hyperlink" Target="file:///Back%20Home/Finding%20Fwiffo.doc" TargetMode="External"/><Relationship Id="rId6" Type="http://schemas.openxmlformats.org/officeDocument/2006/relationships/hyperlink" Target="file:///Back%20Home/Finding%20Fwiffo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c0c0"/>
                </a:solidFill>
                <a:latin typeface="Times New Roman"/>
              </a:rPr>
              <a:t>TWX: Legacies</a:t>
            </a:r>
            <a:endParaRPr b="0" lang="en-US" sz="96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Plot by Asaf Hamtzany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AKA  ‘UAF’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New Dangers - adventure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inding the MK2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Khar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Story of the Mr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I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Okk’ara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Mokop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Kterbi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After the player “free” the Mrn and Chmmr, and convince the Khar, Okk’ara and Mokopo to leave the Niko, the AI will betray their Niko allies and leave as well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Niko immediately start attacking the AI, but are forced back. 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real threat of the game – the AI, is revealed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REAL threat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he AI’s power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topping the Mother Ark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Defending against “possession” (Kterbi)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inding the Precursor factory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Last Battl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Bonus Quest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aving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lylander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he escaping Ur-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qua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Quasispac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Porta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pawner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elping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Jyglar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Supox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expeditio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Mangler’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 Quee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Finding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Fwiff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Shofixti HW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Extra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Quest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he Melnrome Station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he NAFS Statio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Khar Championship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enacers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– monsters of the void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More about the Mr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Androsynth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 survivor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Sites devices and characters in the game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Dates with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Talana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Race description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ew Arm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Old Arm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Main page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ntr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rolog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The New Arm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ack Hom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New Danger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The REAL thre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Ending Movi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Race description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Extra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5791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New Arm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The salvation fly between the arms on autopilot, eventually stopping in a uninhabited system at the new arm. The player don’t have enough fuel to return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The player start exploring the place, meeting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the new arm races</a:t>
            </a:r>
            <a:r>
              <a:rPr b="0" lang="en-US" sz="3200" spc="-1" strike="noStrike" u="sng">
                <a:solidFill>
                  <a:srgbClr val="c0c0c0"/>
                </a:solidFill>
                <a:uFillTx/>
                <a:latin typeface="Times New Roman"/>
                <a:ea typeface="Times New Roman"/>
              </a:rPr>
              <a:t>, and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quests of the new arm</a:t>
            </a:r>
            <a:r>
              <a:rPr b="0" lang="en-US" sz="3200" spc="-1" strike="noStrike" u="sng">
                <a:solidFill>
                  <a:srgbClr val="c0c0c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New Arm Adventure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Main theme of this part of the game i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he Mrn Threat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 which lead him to the SC2 area –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Back Home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During this time the player also get to know the races of the new arm, and can begin some of the quests involving them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New Arm Race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kk’ara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Khar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okopo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enrode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stion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Kterbi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Alkory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2880" y="19047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iko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Ger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Mmrnmhrm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AI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Mrii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Melnorme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Manglers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Back Home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tate of the Home Quadran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ew races in the Old Arm: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uph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Jyglar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ack Home Adventure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Back Home Adventures 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first quest the player encounter back home, a mandatory quest to finish before the player can go back to the New Arm, is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ramed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quest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Hays will suggest that finding more about the Mrn history and creators might help. The player find this in the Story of the Mrn quest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Under new dangers adventures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second quest available at this part i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Getting Talana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, however it doesn’t have to be completed at this part of the game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player can als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i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wiffo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now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New Danger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f the player returns to the new arm, he’ll find that several races converted to the Niko religion (thus are under Niko control) in order to escape Mrn attacks – and it works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Okk’ara, Mokopo, Khar and AI are now under the control of the Niko’s “church”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player must learn more about the Mrn and the reasons to their behavior, and “convert” the races back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lso, at this point the player can find the MK2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s the player get to the New Arm, Wu’bi will hold him to his part of the bargain – Wu’bi will disappear for two months, then return without saying where he was and what he did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 big change in the game appears now, as the Melnorme space gate in the SC2 area is completed, and it’s now easy and fast to travel between the arms.</a:t>
            </a: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Races from the both arms start exploring using the gate – like the Estion who begin scavenging the remains of the races in the Kohr-ah path, and the Druuge who search for new trade opportunities  in the new arm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אסף</cp:lastModifiedBy>
  <dcterms:modified xsi:type="dcterms:W3CDTF">2004-07-23T15:13:18Z</dcterms:modified>
  <cp:revision>36</cp:revision>
  <dc:subject/>
  <dc:title>מצגת של PowerPoint</dc:title>
</cp:coreProperties>
</file>